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DF1F-2CCD-4B50-B545-4B0504F7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BF1-CB40-497A-A80F-9B22B015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1FB1-FAD4-4711-9EF6-41D5EA35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D8AB-FD36-47F7-AFF6-6C4EC195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B5F7-417B-4A76-BD18-08290EA9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4BB6-F499-44DD-BA0F-6613A8BF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1F0D-8A69-48A2-A570-57DCB598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E78F-91FB-41EE-B3A0-47E8084F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58C0-C9AB-423B-8583-A3272828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E4AA-6447-4845-B0E2-F22F4228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1A51-B0F6-4B67-9DA5-31A10297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86C-FD60-4CC5-B4F7-EC97BC1D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E299-B2BE-4A00-A6DD-EC6E52EE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ABE5-E592-43F2-B260-86ED6857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97B5-F472-44A6-8D88-7DC45178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EC25-3908-4AED-B823-A58A046D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75D0-568B-45F3-AD22-52BA6484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E744-E386-405C-91F6-3DA693E6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561C-817F-4F8B-A62B-EAE59903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6C57-F928-477B-8F11-4C097D2E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777-1791-44F7-B87B-E1B2B1ED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FC8F-F875-45EC-82F5-221C7C6E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229F-310E-403C-A3FF-E22E0C88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A53-A09A-45B6-AC11-FC134A97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FB48-F8CB-4C8F-8D3E-3F8B1252ACA9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5320" y="1371240"/>
            <a:ext cx="6629400" cy="2057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2A88-14D3-463C-A94F-397646ACD652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5320" y="1371240"/>
            <a:ext cx="6629400" cy="2057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hapter 4 - Rock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pplied Book pgs. 90-109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ments in the Earth’s crus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057400" y="1762200"/>
            <a:ext cx="54100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371600" y="1625760"/>
            <a:ext cx="6629400" cy="4317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5320" y="228240"/>
            <a:ext cx="6629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The Rock Cycl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5800" y="1265400"/>
            <a:ext cx="7772400" cy="432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5320" y="38052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owen’s Reaction Seri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Mafic (Basaltic) Rock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edimentary Rock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36680" y="1523880"/>
            <a:ext cx="4821480" cy="4876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71440" y="2441520"/>
            <a:ext cx="186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the victims in Pompeii covered with lava or a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edimentary Rock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666880" y="1549440"/>
            <a:ext cx="5791320" cy="4734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3520" y="1676520"/>
            <a:ext cx="48513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23:23:54Z</dcterms:created>
  <dc:creator>PA Department of Education</dc:creator>
  <dc:description/>
  <dc:language>en-US</dc:language>
  <cp:lastModifiedBy>PA Department of Education</cp:lastModifiedBy>
  <dcterms:modified xsi:type="dcterms:W3CDTF">2007-12-28T23:51:27Z</dcterms:modified>
  <cp:revision>8</cp:revision>
  <dc:subject/>
  <dc:title>Chapter 4 - Rocks</dc:title>
</cp:coreProperties>
</file>